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19C2-46FE-4ECB-BD29-7FA5DE806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D332-CE12-47EE-8EB8-395DDAA78CC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EDE3-32B8-4AB0-BFD0-2D909840E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CC9E-0908-4B55-A042-5376C33DC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45DE-47B9-4275-B16E-FD73706EF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CFEA-AC92-46D9-AB9F-0A2EBDE8C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BB279-E5E5-4FAD-B3F8-782EBCE660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6A23D-AEF5-4310-8C15-E9B9C5459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871A-ED63-4718-9954-B1B1E64AC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9AC16-24A4-4D36-9B4D-9B89B4A2A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CE7E2-7D96-4FB2-8E3D-4DD9136DF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D14E-2FFB-4A78-8FC8-579F1ADAC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74DC-56BB-48A1-92C5-979F0AB4E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A67E-25C0-4DCD-86C8-121C25EBA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F2B2-ECBF-411B-B6D1-365E48CD2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633D-B2E0-46BB-A4ED-B5E9216504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35EA-A5EE-499D-9917-21A5C14EB7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9CE82-7F89-49C2-9723-65B50D506B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C870B-0625-46C6-A8C4-F6D0DA42A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C9B6-BABC-4ABC-8689-61254CF1E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751A-BFCF-4628-867D-FD04696E1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CBDB-3207-4561-9119-174B548D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A004-0FFA-42C3-82DF-83CC8FC41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BF40-BCA8-4630-9FA3-C92747FAA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C65A-5035-4135-999A-BFEA9406D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77A8-1AB1-4E2F-829D-97E5A8F19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7A5126C-5D5D-40DC-A505-244FFE6F949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825EC83-5CFB-470B-8BE5-508FDAED3E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3C4CEF7-7065-4AA9-B5BA-D1F9D20C0A7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1A932A0-98F7-441A-AD39-D5A91243B1E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0-11-09T12:19:25Z</dcterms:modified>
  <cp:revision>353</cp:revision>
  <dc:subject/>
  <dc:title>Exploratory Data Analysis</dc:title>
</cp:coreProperties>
</file>